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1DB5-7EF4-4A5F-8F18-50F7C3E13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E354-4E8D-4F1D-9D69-1D93E681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4DB4-DE30-4EAF-B8E8-E2FBB39AB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799D-81C9-4F2A-86A7-97D2B1D12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F090-DDA3-40FA-8D37-0DBE93BC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6B6F-9C3D-4032-88E9-7E6F22A5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C81F-AA1D-4A8A-BBC7-D8CCF321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E388-656A-4049-9C53-B0652884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AB47-5826-42E6-9579-B351F9A0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1C9E-1AC9-4623-98D9-EB2263E4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41D7-CA3C-4A99-868A-C419E83D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CC11-D0F4-4E9D-9D9C-B6F0C29B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2E54-902A-4720-90EC-DC1341A6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22F9-9819-4DC4-833F-80A76135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18E6-03AF-467D-9A4F-35436D92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4FB8-BF9E-4BCA-8B79-15D513ADD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3940-9147-4422-94B7-5C135237C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DF8A-CA04-46EA-94EC-5FCB0234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D38B-BE66-46A8-948C-348F534F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FB2A-AEEC-4E6D-832F-31417F00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EDC5-E4A7-43D5-B235-D8285169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53EB-6680-4B08-92DD-1B17E117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DD51-4405-4F6B-81CE-7175B0E6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A668-0780-412E-8662-E8544703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1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73EE-39D1-4D3D-8BD9-27EA30330C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1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A294-D496-4844-A37A-7E065D2552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308628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cc"/>
                </a:solidFill>
                <a:latin typeface="Times New Roman"/>
              </a:rPr>
              <a:t>Marcus et Ancill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mnes servi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villa dormiu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d ancil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n dormit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urtim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 villa ambula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revi tempor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d rivum currit.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gnam arborem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pe rivum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spici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fessa est.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es est calidu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b arbore sedet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cilla Marcum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n videt.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borem ascendi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cilla sollicita est.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bi est Marcus?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rcus 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I. (Ch. 1-5) Ancilla, a Slave Girl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rcus sollicitus est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od ancillam amat.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52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rcus est Romanus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d ancilla est Britannica.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22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rcus est filius senatoris.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cilla est filia servi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ur est Marcus sollicitus?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ter Marci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st senator Romanus.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ter ancilla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st servus Britannicu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22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rcus solu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d arborem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pe rivum ambulat.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22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revi tempor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cillam conspicit.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cilla sol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b arbore sede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22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rcus vocat.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cilla . . 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II. (Ch. 1-6) MAGNA ARBOR, the Big Tree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cilla sola est.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die dies est calidus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07:08:02Z</dcterms:created>
  <dc:creator>HP Authorized Customer</dc:creator>
  <dc:description/>
  <dc:language>en-US</dc:language>
  <cp:lastModifiedBy>HP Authorized Customer</cp:lastModifiedBy>
  <dcterms:modified xsi:type="dcterms:W3CDTF">2008-10-25T07:01:02Z</dcterms:modified>
  <cp:revision>14</cp:revision>
  <dc:subject/>
  <dc:title>Slide 1</dc:title>
</cp:coreProperties>
</file>